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CF49-A448-4D83-AE02-D458E546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6E99-24A6-4ACA-A0EF-C4A2C0D7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7515-777F-40EC-A43C-89D82CAE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1A6E-02A1-48EF-8436-B0943695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C7B1-F4C7-46D7-A666-BFBEF4A9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7A3E-45E8-4A36-95C2-1F3A95BE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D00-5581-454E-A59D-37EFBD0D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CEE2-E1DD-450B-A772-BBBFA3E5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BC2-540E-489E-86F0-E65FD983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5699-5AAD-499D-814F-24A11B5A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9A46-84AC-4906-8E94-F45BC082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34A-FD3D-45C4-B73B-FB82227F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ADCD-709A-4F82-8B50-5615873716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22.xml"/><Relationship Id="rId4" Type="http://schemas.openxmlformats.org/officeDocument/2006/relationships/slide" Target="slide32.xml"/><Relationship Id="rId5" Type="http://schemas.openxmlformats.org/officeDocument/2006/relationships/slide" Target="slide42.xml"/><Relationship Id="rId6" Type="http://schemas.openxmlformats.org/officeDocument/2006/relationships/slide" Target="slide4.xml"/><Relationship Id="rId7" Type="http://schemas.openxmlformats.org/officeDocument/2006/relationships/slide" Target="slide14.xml"/><Relationship Id="rId8" Type="http://schemas.openxmlformats.org/officeDocument/2006/relationships/slide" Target="slide24.xml"/><Relationship Id="rId9" Type="http://schemas.openxmlformats.org/officeDocument/2006/relationships/slide" Target="slide34.xml"/><Relationship Id="rId10" Type="http://schemas.openxmlformats.org/officeDocument/2006/relationships/slide" Target="slide44.xml"/><Relationship Id="rId11" Type="http://schemas.openxmlformats.org/officeDocument/2006/relationships/slide" Target="slide6.xml"/><Relationship Id="rId12" Type="http://schemas.openxmlformats.org/officeDocument/2006/relationships/slide" Target="slide16.xml"/><Relationship Id="rId13" Type="http://schemas.openxmlformats.org/officeDocument/2006/relationships/slide" Target="slide26.xml"/><Relationship Id="rId14" Type="http://schemas.openxmlformats.org/officeDocument/2006/relationships/slide" Target="slide36.xml"/><Relationship Id="rId15" Type="http://schemas.openxmlformats.org/officeDocument/2006/relationships/slide" Target="slide46.xml"/><Relationship Id="rId16" Type="http://schemas.openxmlformats.org/officeDocument/2006/relationships/slide" Target="slide8.xml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80880" y="380880"/>
          <a:ext cx="8458200" cy="6096240"/>
        </p:xfrm>
        <a:graphic>
          <a:graphicData uri="http://schemas.openxmlformats.org/drawingml/2006/table">
            <a:tbl>
              <a:tblPr/>
              <a:tblGrid>
                <a:gridCol w="1692360"/>
                <a:gridCol w="1690560"/>
                <a:gridCol w="1692360"/>
                <a:gridCol w="1690920"/>
                <a:gridCol w="1692000"/>
              </a:tblGrid>
              <a:tr h="101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cabula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nderful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sons from Lab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ntra-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ds n En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2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3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3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3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3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4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Term to describe liquids that are insoluble in one another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Immiscibl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The two elements in a water molecul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Hydrogen and Oxygen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0240" y="-30492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The movement of water through out the environment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Water Cycl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Because water has a positively charged end and a negatively charged end, it is thi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polar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The property of water that allows molecules to stick to eachother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cohesion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The sugar in a glass of lemonad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Because water dissolves  more substances than any other liquid, it is called thi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The Universal Solvent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Compared to a sugar cube, crushed sugar dissolves _________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faster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Compared to pure water, salt water freezes ________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slower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To supersature the sugar solution used to make rock candy, you must do thi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Increase temperatur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Arial"/>
              </a:rPr>
              <a:t>When you do this to a solution, you increase how quickly solute dissolves, but NOT the amount that can be dissolved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Agitat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SOLUT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Double Jeopardy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Two of the three methods you can use to separate a solution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Formula for calculating the concentration of a solution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ccffff"/>
                </a:solidFill>
                <a:uFillTx/>
                <a:latin typeface="Arial"/>
              </a:rPr>
              <a:t>Mass of solute </a:t>
            </a:r>
            <a:br>
              <a:rPr sz="7200"/>
            </a:b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Volume of solution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Concentration of 20g of sugar in 1000mL of water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20g/L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Grams of Solute in 1.5L of solution if 1.0L of solution has 30g of Solut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ccffff"/>
                </a:solidFill>
                <a:uFillTx/>
                <a:latin typeface="Arial"/>
              </a:rPr>
              <a:t>30</a:t>
            </a: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  =  </a:t>
            </a:r>
            <a:r>
              <a:rPr b="0" lang="en-US" sz="7200" spc="-1" strike="noStrike" u="sng">
                <a:solidFill>
                  <a:srgbClr val="ccffff"/>
                </a:solidFill>
                <a:uFillTx/>
                <a:latin typeface="Arial"/>
              </a:rPr>
              <a:t>x</a:t>
            </a:r>
            <a:br>
              <a:rPr sz="7200"/>
            </a:b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1.0    1.5</a:t>
            </a: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x = 40g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25g solute are dissolved in 75g of water.  What is the % by mass of solute?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Arial"/>
              </a:rPr>
              <a:t>25g solute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75g water +25g solut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5943600" y="826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 100% 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2290680" y="2798640"/>
            <a:ext cx="66294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Arial"/>
              </a:rPr>
              <a:t>25% 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The water in a cup of tea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Col 4 Answer 5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Col 4 Question 5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After condensation, the part of a solution that remain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Solvent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After Evaporation, the part of the solution that remain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Solut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Process of evaporating a liquid then condensing the gas back to a liquid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distillation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Adding antifreeze to a car’s cooling system is an example of thi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Boiling Point depression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Solvent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The law of conservation of mas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Matter can neither be destroyed or created, it can only change form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If you placed a stone into a bowl of oil you would see it is thi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insolubl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When there is extra sugar sitting at the bottom of a pitcher of koolaid, the solution is thi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Saturated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6:52:22Z</dcterms:created>
  <dc:creator>mpgross</dc:creator>
  <dc:description/>
  <dc:language>en-US</dc:language>
  <cp:lastModifiedBy>SADA GANSKE</cp:lastModifiedBy>
  <dcterms:modified xsi:type="dcterms:W3CDTF">2012-02-28T14:57:17Z</dcterms:modified>
  <cp:revision>32</cp:revision>
  <dc:subject/>
  <dc:title>Slide 1</dc:title>
</cp:coreProperties>
</file>